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EA09-C4AA-491A-9619-0BD583C612F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n 1998 el Perú y Chile suscribieron el Acuerdo de Complementación Económica N° 3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1995 e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 Perú y México firmaron el Acuerdo de Complementación Económica N°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Perú se adhirió al ATPA (Ley de Preferencias Arancelarias Andinas) en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lo abrió las puertas de EE.UU. a alrededor de 5,500 productos, que no incluían a los textiles y las confec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chas preferencias vencieron en diciembre del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ATPDEA (Ley de Promoción Comercial Andina y Erradicación de la Droga) las renov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Se firmó en agosto del 2002 y entró en vigencia en octubre de ese mismo añ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xtiende las preferencias a las confecciones, entre otros produ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80AA-2382-422A-AD5C-1B5FFCF9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DBB-8C4A-49A3-91B6-F2409EE8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C917-2278-4A75-8525-C025BF49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D4F-FBE8-49E4-9278-97F975CD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2DF0-EBB7-44CA-BE6D-108831F8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8ECC-2C79-42DE-9BA4-E3D09CB8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46A3-FA2A-43AE-939C-439DFE39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2573-0FAB-4851-84D8-BE1997BD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116F-A558-42C0-A570-11D8DE2B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61F0-0E70-48BA-9032-21B7E99F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32D4-4491-4635-B13C-8383946C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F1A-9851-4522-8E29-037B0998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21F8-B951-4A16-8458-FFD109A5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275E-A5F5-4691-975C-B9551407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8E81-C0FC-467E-9F0F-6BC46C26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237D-E61C-440C-8A96-6D48F100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DCC9-FC0D-4A2A-A4F6-6CC9A07D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291-CB9F-4BBE-AED7-0550A937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55B-B1AB-4CC3-BBF4-22C8BB34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2989-BEDA-475C-B9AB-D9C1C83C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E17-A4FC-441D-9172-1133E6F0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5556-7636-4884-9012-ABEE070C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AFB8-162F-4D2B-A3FB-80A16C4C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EEE-E56C-455E-9D82-E328A6A5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57F9-0E0F-4621-8DE3-BBD6187F5F1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D58F-C865-4D39-BE44-CD169A56D5C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4957" r="0" b="0"/>
          <a:stretch/>
        </p:blipFill>
        <p:spPr>
          <a:xfrm>
            <a:off x="609480" y="1798560"/>
            <a:ext cx="76345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4390" r="0" b="0"/>
          <a:stretch/>
        </p:blipFill>
        <p:spPr>
          <a:xfrm>
            <a:off x="380880" y="1660680"/>
            <a:ext cx="7936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5150" r="0" b="0"/>
          <a:stretch/>
        </p:blipFill>
        <p:spPr>
          <a:xfrm>
            <a:off x="685800" y="1844640"/>
            <a:ext cx="76089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4037" r="0" b="0"/>
          <a:stretch/>
        </p:blipFill>
        <p:spPr>
          <a:xfrm>
            <a:off x="533520" y="1668600"/>
            <a:ext cx="80071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224000"/>
            <a:ext cx="78469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Desarrollo de merc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merc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ni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33370" b="11189"/>
          <a:stretch/>
        </p:blipFill>
        <p:spPr>
          <a:xfrm>
            <a:off x="611280" y="2421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18888" t="8382" r="35419" b="28609"/>
          <a:stretch/>
        </p:blipFill>
        <p:spPr>
          <a:xfrm>
            <a:off x="4788000" y="2421000"/>
            <a:ext cx="2089080" cy="216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12804" t="10676" r="26419" b="8232"/>
          <a:stretch/>
        </p:blipFill>
        <p:spPr>
          <a:xfrm>
            <a:off x="2268360" y="2924280"/>
            <a:ext cx="201456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rcRect l="0" t="0" r="28971" b="5296"/>
          <a:stretch/>
        </p:blipFill>
        <p:spPr>
          <a:xfrm>
            <a:off x="1187280" y="407664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516720" y="2997360"/>
            <a:ext cx="2087640" cy="20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rcRect l="0" t="6711" r="0" b="0"/>
          <a:stretch/>
        </p:blipFill>
        <p:spPr>
          <a:xfrm>
            <a:off x="5796000" y="4076640"/>
            <a:ext cx="2089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981000"/>
            <a:ext cx="58672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5169" r="0" b="0"/>
          <a:stretch/>
        </p:blipFill>
        <p:spPr>
          <a:xfrm>
            <a:off x="304920" y="1576440"/>
            <a:ext cx="7772400" cy="5067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360360"/>
            <a:ext cx="79311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335240"/>
            <a:ext cx="70866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5640" y="582480"/>
            <a:ext cx="8677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1641600"/>
            <a:ext cx="7010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1068480"/>
            <a:ext cx="64008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79250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Poca cama, poco plato, </a:t>
            </a:r>
            <a:br>
              <a:rPr sz="3500"/>
            </a:b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mucho zapato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5:26:53Z</dcterms:created>
  <dc:creator>jore</dc:creator>
  <dc:description/>
  <dc:language>en-US</dc:language>
  <cp:lastModifiedBy>jore</cp:lastModifiedBy>
  <dcterms:modified xsi:type="dcterms:W3CDTF">2005-04-29T20:17:19Z</dcterms:modified>
  <cp:revision>24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961498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pts</vt:lpwstr>
  </property>
  <property fmtid="{D5CDD505-2E9C-101B-9397-08002B2CF9AE}" pid="6" name="_PreviousAdHocReviewCycleID">
    <vt:r8>-434339299</vt:r8>
  </property>
</Properties>
</file>