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0D1D-9252-48EF-95F4-55B6833BD3C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n 1998 el Perú y Chile suscribieron el Acuerdo de Complementación Económica N° 3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1995 e</a:t>
            </a: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 Perú y México firmaron el Acuerdo de Complementación Económica N°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Perú se adhirió al ATPA (Ley de Preferencias Arancelarias Andinas) en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lo abrió las puertas de EE.UU. a alrededor de 5,500 productos, que no incluían a los textiles y las confec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Dichas preferencias vencieron en diciembre del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ATPDEA (Ley de Promoción Comercial Andina y Erradicación de la Droga) las renov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Se firmó en agosto del 2002 y entró en vigencia en octubre de ese mismo añ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xtiende las preferencias a las confecciones, entre otros produc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FB08-561A-492A-ABDE-B46DCCE2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8BF6-C132-4905-8003-3FB5AFFF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3063-2B3A-44B5-BA2F-AA7055B2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C1F0-7B8A-47FE-8F86-488B2541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E0DB-75E0-4F9E-BB11-E0192EA7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E6F6-C97D-4CD8-8D2A-66E28EB7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E6D2-7978-4BA6-9989-84575CE1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0D44-F0AF-446B-9902-1CF847B2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F7D4-BAA3-438A-B008-5239E888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BA8B-A3ED-4E42-9C69-35666CA7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D4DE-134D-426B-9862-999C8077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18C6-90BA-4C0C-B5F1-4A4A802C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1A42-DDB7-4EE7-B0A7-00A4921A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E5CA-51AE-4BCE-B8BB-2DC464D5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4ECA-C460-46D7-8236-0BE097D3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F46F-3A79-4229-8770-1C78F940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A7CE-FFF3-4BD5-A212-8359B925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8C24-3F98-4833-95C3-7B9813FD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784A-CCF4-4C5C-B433-01CFD858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7BBB-F18B-4017-932C-0A434BA7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48E5-21B2-41EC-8D6E-E62FFD24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CCB4-0092-4A56-8342-B68DC206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9889-9322-45BD-900A-C9236656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9F87-8265-437D-8F27-AAF4E968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39CD-F13B-41C8-8421-5B646B673EA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B821-DB6C-4804-8E02-FD541CC1336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4957" r="0" b="0"/>
          <a:stretch/>
        </p:blipFill>
        <p:spPr>
          <a:xfrm>
            <a:off x="609480" y="1798560"/>
            <a:ext cx="76345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4390" r="0" b="0"/>
          <a:stretch/>
        </p:blipFill>
        <p:spPr>
          <a:xfrm>
            <a:off x="380880" y="1660680"/>
            <a:ext cx="7936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5150" r="0" b="0"/>
          <a:stretch/>
        </p:blipFill>
        <p:spPr>
          <a:xfrm>
            <a:off x="685800" y="1844640"/>
            <a:ext cx="76089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4037" r="0" b="0"/>
          <a:stretch/>
        </p:blipFill>
        <p:spPr>
          <a:xfrm>
            <a:off x="533520" y="1668600"/>
            <a:ext cx="80071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1224000"/>
            <a:ext cx="78469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0643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Desarrollo de merc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merc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nich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33370" b="11189"/>
          <a:stretch/>
        </p:blipFill>
        <p:spPr>
          <a:xfrm>
            <a:off x="611280" y="2421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18888" t="8382" r="35419" b="28609"/>
          <a:stretch/>
        </p:blipFill>
        <p:spPr>
          <a:xfrm>
            <a:off x="4788000" y="2421000"/>
            <a:ext cx="2089080" cy="216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12804" t="10676" r="26419" b="8232"/>
          <a:stretch/>
        </p:blipFill>
        <p:spPr>
          <a:xfrm>
            <a:off x="2268360" y="2924280"/>
            <a:ext cx="2014560" cy="20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rcRect l="0" t="0" r="28971" b="5296"/>
          <a:stretch/>
        </p:blipFill>
        <p:spPr>
          <a:xfrm>
            <a:off x="1187280" y="407664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6516720" y="2997360"/>
            <a:ext cx="2087640" cy="20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rcRect l="0" t="6711" r="0" b="0"/>
          <a:stretch/>
        </p:blipFill>
        <p:spPr>
          <a:xfrm>
            <a:off x="5796000" y="4076640"/>
            <a:ext cx="20890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981000"/>
            <a:ext cx="586728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0" t="5169" r="0" b="0"/>
          <a:stretch/>
        </p:blipFill>
        <p:spPr>
          <a:xfrm>
            <a:off x="304920" y="1576440"/>
            <a:ext cx="7772400" cy="5067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360360"/>
            <a:ext cx="793116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920" y="1335240"/>
            <a:ext cx="70866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5640" y="582480"/>
            <a:ext cx="86770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90720" y="1641600"/>
            <a:ext cx="70102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1068480"/>
            <a:ext cx="64008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79250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Poca cama, poco plato, </a:t>
            </a:r>
            <a:br>
              <a:rPr sz="3500"/>
            </a:b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mucho zapato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5:26:53Z</dcterms:created>
  <dc:creator>jore</dc:creator>
  <dc:description/>
  <dc:language>en-US</dc:language>
  <cp:lastModifiedBy>jore</cp:lastModifiedBy>
  <dcterms:modified xsi:type="dcterms:W3CDTF">2005-04-29T20:17:19Z</dcterms:modified>
  <cp:revision>24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961498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pts</vt:lpwstr>
  </property>
  <property fmtid="{D5CDD505-2E9C-101B-9397-08002B2CF9AE}" pid="6" name="_PreviousAdHocReviewCycleID">
    <vt:r8>-434339299</vt:r8>
  </property>
</Properties>
</file>