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519F-6F33-40E3-AC49-0A0C97FC4AD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n 1998 el Perú y Chile suscribieron el Acuerdo de Complementación Económica N° 3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 1995 e</a:t>
            </a: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 Perú y México firmaron el Acuerdo de Complementación Económica N°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l Perú se adhirió al ATPA (Ley de Preferencias Arancelarias Andinas) en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llo abrió las puertas de EE.UU. a alrededor de 5,500 productos, que no incluían a los textiles y las confec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Dichas preferencias vencieron en diciembre del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l ATPDEA (Ley de Promoción Comercial Andina y Erradicación de la Droga) las renov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Se firmó en agosto del 2002 y entró en vigencia en octubre de ese mismo añ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xtiende las preferencias a las confecciones, entre otros produc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F2C1-3E8B-4AF1-B2DB-CDBF671F6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1FFA-1E51-4A2E-9A90-BD9C48A6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5A50-647F-428C-B64D-58EFE8CE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695D-B6C7-4037-83F0-A9816A7C1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61CB-15AE-443B-BB65-698C4BDF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B637-37FE-4F48-BBBF-16E65CE8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437A-A3C0-43A7-839E-9ABF95C2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DF9B-4939-44DB-BDAD-7F9EB1FE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2B48-F8DB-45A4-B52A-7315DC51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EF7F-60D6-49F0-A117-B37359ED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BA7D-65CE-4ADD-AC49-64A812C0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B95B-628D-4035-B9ED-F67FAA99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3ADD-91F9-46A9-B6E4-A703BFFD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79C4-475C-4434-8E24-50817D19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11CB-8ED1-452B-9563-5FB68E87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D5EC-9B35-4B0B-8815-43B84F6CF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A1F7-5A8D-4EE2-9C51-4189115F1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AD16-E034-4EC2-AEDE-6C493732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0B8F-D7AE-4780-B00A-47E2B755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F17A-FC68-4B65-9FB6-F6D121F4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3E25-172A-494A-AAE3-6E9E00EA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6FD3-0278-47A8-9EF9-D73BC9B4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B426-636C-4192-B04B-B591DD66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D853-6526-4540-A0D8-D8D3447E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dddd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2E68-5B93-4F1E-84B0-E1251434160D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0074-F959-4717-B55E-16B582793A75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ddddd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4560" y="620280"/>
            <a:ext cx="7201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Conquistando mercados: oportunidades para</a:t>
            </a:r>
            <a:br>
              <a:rPr sz="4000"/>
            </a:b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la agroexportació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26920" y="2924280"/>
            <a:ext cx="64008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osé Chlimper Ack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4957" r="0" b="0"/>
          <a:stretch/>
        </p:blipFill>
        <p:spPr>
          <a:xfrm>
            <a:off x="609480" y="1798560"/>
            <a:ext cx="763452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4390" r="0" b="0"/>
          <a:stretch/>
        </p:blipFill>
        <p:spPr>
          <a:xfrm>
            <a:off x="380880" y="1660680"/>
            <a:ext cx="79362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5150" r="0" b="0"/>
          <a:stretch/>
        </p:blipFill>
        <p:spPr>
          <a:xfrm>
            <a:off x="685800" y="1844640"/>
            <a:ext cx="760896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4037" r="0" b="0"/>
          <a:stretch/>
        </p:blipFill>
        <p:spPr>
          <a:xfrm>
            <a:off x="533520" y="1668600"/>
            <a:ext cx="800712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11280" y="1224000"/>
            <a:ext cx="784692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0643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560" y="620280"/>
            <a:ext cx="7201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Conquistando mercados: oportunidades para</a:t>
            </a:r>
            <a:br>
              <a:rPr sz="4000"/>
            </a:b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la agroexportació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26920" y="2924280"/>
            <a:ext cx="64008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osé Chlimper Ack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Desarrollo de mercado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uevos merc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uevos nich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33370" b="11189"/>
          <a:stretch/>
        </p:blipFill>
        <p:spPr>
          <a:xfrm>
            <a:off x="611280" y="242100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18888" t="8382" r="35419" b="28609"/>
          <a:stretch/>
        </p:blipFill>
        <p:spPr>
          <a:xfrm>
            <a:off x="4788000" y="2421000"/>
            <a:ext cx="2089080" cy="2160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rcRect l="12804" t="10676" r="26419" b="8232"/>
          <a:stretch/>
        </p:blipFill>
        <p:spPr>
          <a:xfrm>
            <a:off x="2268360" y="2924280"/>
            <a:ext cx="2014560" cy="2016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rcRect l="0" t="0" r="28971" b="5296"/>
          <a:stretch/>
        </p:blipFill>
        <p:spPr>
          <a:xfrm>
            <a:off x="1187280" y="407664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6516720" y="2997360"/>
            <a:ext cx="2087640" cy="2028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6"/>
          <a:srcRect l="0" t="6711" r="0" b="0"/>
          <a:stretch/>
        </p:blipFill>
        <p:spPr>
          <a:xfrm>
            <a:off x="5796000" y="4076640"/>
            <a:ext cx="20890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café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3520" y="981000"/>
            <a:ext cx="586728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rcRect l="0" t="5169" r="0" b="0"/>
          <a:stretch/>
        </p:blipFill>
        <p:spPr>
          <a:xfrm>
            <a:off x="304920" y="1576440"/>
            <a:ext cx="7772400" cy="50673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café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8920" y="360360"/>
            <a:ext cx="793116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8000"/>
                </a:solidFill>
                <a:latin typeface="Arial Black"/>
              </a:rPr>
              <a:t>Nuevos mercados: espárragos frescos o refrigerados</a:t>
            </a: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04920" y="1335240"/>
            <a:ext cx="708660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5640" y="582480"/>
            <a:ext cx="86770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espárragos frescos o refrigerado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90720" y="1641600"/>
            <a:ext cx="70102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uva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09480" y="1068480"/>
            <a:ext cx="640080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uva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792504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 Black"/>
              </a:rPr>
              <a:t>Poca cama, poco plato, </a:t>
            </a:r>
            <a:br>
              <a:rPr sz="3500"/>
            </a:br>
            <a:r>
              <a:rPr b="0" lang="es-ES_tradnl" sz="3500" spc="-1" strike="noStrike">
                <a:solidFill>
                  <a:srgbClr val="000000"/>
                </a:solidFill>
                <a:latin typeface="Arial Black"/>
              </a:rPr>
              <a:t>mucho zapato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5:26:53Z</dcterms:created>
  <dc:creator>jore</dc:creator>
  <dc:description/>
  <dc:language>en-US</dc:language>
  <cp:lastModifiedBy>jore</cp:lastModifiedBy>
  <dcterms:modified xsi:type="dcterms:W3CDTF">2005-04-29T20:17:19Z</dcterms:modified>
  <cp:revision>24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9614985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pts</vt:lpwstr>
  </property>
  <property fmtid="{D5CDD505-2E9C-101B-9397-08002B2CF9AE}" pid="6" name="_PreviousAdHocReviewCycleID">
    <vt:r8>-434339299</vt:r8>
  </property>
</Properties>
</file>