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18.wmf" ContentType="image/x-wmf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0E53-2683-460A-A5FF-D5A2F5B5427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n 1998 el Perú y Chile suscribieron el Acuerdo de Complementación Económica N° 3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n 1995 e</a:t>
            </a: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l Perú y México firmaron el Acuerdo de Complementación Económica N°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l Perú se adhirió al ATPA (Ley de Preferencias Arancelarias Andinas) en 199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llo abrió las puertas de EE.UU. a alrededor de 5,500 productos, que no incluían a los textiles y las confec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Dichas preferencias vencieron en diciembre del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l ATPDEA (Ley de Promoción Comercial Andina y Erradicación de la Droga) las renov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Se firmó en agosto del 2002 y entró en vigencia en octubre de ese mismo añ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Extiende las preferencias a las confecciones, entre otros product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801B-8C51-4AFC-8D37-A7379BA7D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B32E-3C8B-4560-A7B3-2C867BD9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DB83-225F-427C-8A2A-DDD2CC494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C470-DC1D-4D0D-90CE-88F03B28C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8281-FE8C-4EF0-8277-F38A88B72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1C8D-2CC7-4DC6-853B-685D8D3D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B696F-ED72-4D42-81CB-052F764F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E486-9255-4600-A2B2-39992281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6B6C3-265D-4004-A9A9-6A6C6B61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46DA-1C67-4331-AA22-68C5EDEE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D0DA-C581-404E-9270-6F7CA76A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9A9D-9B34-4C87-B1BA-86945E7C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4520-7D93-47FD-890D-A84A7933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AB7C-DAA0-4E5E-8F9F-FDE5667B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07DB-773C-4E03-968C-9957E0D9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972D-BB54-4198-B344-6730313F5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3A2A7-D737-490E-A6A7-AEB9BFAC9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4ED1-3A96-4841-8C01-7C51FCB7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2887-F486-4649-BFAA-D1984C10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D30F-AB67-4A85-B651-96FE9C22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D07C-F248-40BB-8D19-A23379C4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BEB2-35CB-4DF2-B5E2-FD462A5F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5874-FB51-4421-8B0B-A7706DDA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1513-E0D5-4428-A708-B17D0C5E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008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dddd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4808-73FA-469D-8F9F-3FD60EC74C0C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BF2E-73DB-4BE9-B039-053C5CBFF935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ddddd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4560" y="620280"/>
            <a:ext cx="7201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8000"/>
                </a:solidFill>
                <a:latin typeface="Arial Black"/>
              </a:rPr>
              <a:t>Conquistando mercados: oportunidades para</a:t>
            </a:r>
            <a:br>
              <a:rPr sz="4000"/>
            </a:br>
            <a:r>
              <a:rPr b="0" lang="es-ES_tradnl" sz="4000" spc="-1" strike="noStrike">
                <a:solidFill>
                  <a:srgbClr val="008000"/>
                </a:solidFill>
                <a:latin typeface="Arial Black"/>
              </a:rPr>
              <a:t>la agroexportación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26920" y="2924280"/>
            <a:ext cx="64008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osé Chlimper Acke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4957" r="0" b="0"/>
          <a:stretch/>
        </p:blipFill>
        <p:spPr>
          <a:xfrm>
            <a:off x="609480" y="1798560"/>
            <a:ext cx="763452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4390" r="0" b="0"/>
          <a:stretch/>
        </p:blipFill>
        <p:spPr>
          <a:xfrm>
            <a:off x="380880" y="1660680"/>
            <a:ext cx="793620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5150" r="0" b="0"/>
          <a:stretch/>
        </p:blipFill>
        <p:spPr>
          <a:xfrm>
            <a:off x="685800" y="1844640"/>
            <a:ext cx="760896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4037" r="0" b="0"/>
          <a:stretch/>
        </p:blipFill>
        <p:spPr>
          <a:xfrm>
            <a:off x="533520" y="1668600"/>
            <a:ext cx="800712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11280" y="1224000"/>
            <a:ext cx="784692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Algunos resultados de la integración comercial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0643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4560" y="620280"/>
            <a:ext cx="7201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8000"/>
                </a:solidFill>
                <a:latin typeface="Arial Black"/>
              </a:rPr>
              <a:t>Conquistando mercados: oportunidades para</a:t>
            </a:r>
            <a:br>
              <a:rPr sz="4000"/>
            </a:br>
            <a:r>
              <a:rPr b="0" lang="es-ES_tradnl" sz="4000" spc="-1" strike="noStrike">
                <a:solidFill>
                  <a:srgbClr val="008000"/>
                </a:solidFill>
                <a:latin typeface="Arial Black"/>
              </a:rPr>
              <a:t>la agroexportación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26920" y="2924280"/>
            <a:ext cx="64008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José Chlimper Acke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Desarrollo de mercados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uevos merc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uevos nich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33370" b="11189"/>
          <a:stretch/>
        </p:blipFill>
        <p:spPr>
          <a:xfrm>
            <a:off x="611280" y="242100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rcRect l="18888" t="8382" r="35419" b="28609"/>
          <a:stretch/>
        </p:blipFill>
        <p:spPr>
          <a:xfrm>
            <a:off x="4788000" y="2421000"/>
            <a:ext cx="2089080" cy="2160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rcRect l="12804" t="10676" r="26419" b="8232"/>
          <a:stretch/>
        </p:blipFill>
        <p:spPr>
          <a:xfrm>
            <a:off x="2268360" y="2924280"/>
            <a:ext cx="2014560" cy="2016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rcRect l="0" t="0" r="28971" b="5296"/>
          <a:stretch/>
        </p:blipFill>
        <p:spPr>
          <a:xfrm>
            <a:off x="1187280" y="407664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6516720" y="2997360"/>
            <a:ext cx="2087640" cy="2028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6"/>
          <a:srcRect l="0" t="6711" r="0" b="0"/>
          <a:stretch/>
        </p:blipFill>
        <p:spPr>
          <a:xfrm>
            <a:off x="5796000" y="4076640"/>
            <a:ext cx="208908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café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33520" y="981000"/>
            <a:ext cx="586728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rcRect l="0" t="5169" r="0" b="0"/>
          <a:stretch/>
        </p:blipFill>
        <p:spPr>
          <a:xfrm>
            <a:off x="304920" y="1576440"/>
            <a:ext cx="7772400" cy="50673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café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8920" y="360360"/>
            <a:ext cx="793116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8000"/>
                </a:solidFill>
                <a:latin typeface="Arial Black"/>
              </a:rPr>
              <a:t>Nuevos mercados: espárragos frescos o refrigerados</a:t>
            </a:r>
            <a:endParaRPr b="1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04920" y="1335240"/>
            <a:ext cx="708660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5640" y="582480"/>
            <a:ext cx="86770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espárragos frescos o refrigerados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90720" y="1641600"/>
            <a:ext cx="701028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uvas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09480" y="1068480"/>
            <a:ext cx="640080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8000"/>
                </a:solidFill>
                <a:latin typeface="Arial Black"/>
              </a:rPr>
              <a:t>Nuevos mercados: uvas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792504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Arial Black"/>
              </a:rPr>
              <a:t>Poca cama, poco plato, </a:t>
            </a:r>
            <a:br>
              <a:rPr sz="3500"/>
            </a:br>
            <a:r>
              <a:rPr b="0" lang="es-ES_tradnl" sz="3500" spc="-1" strike="noStrike">
                <a:solidFill>
                  <a:srgbClr val="000000"/>
                </a:solidFill>
                <a:latin typeface="Arial Black"/>
              </a:rPr>
              <a:t>mucho zapato</a:t>
            </a:r>
            <a:endParaRPr b="1" lang="en-US" sz="35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5:26:53Z</dcterms:created>
  <dc:creator>jore</dc:creator>
  <dc:description/>
  <dc:language>en-US</dc:language>
  <cp:lastModifiedBy>jore</cp:lastModifiedBy>
  <dcterms:modified xsi:type="dcterms:W3CDTF">2005-04-29T20:17:19Z</dcterms:modified>
  <cp:revision>24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9614985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ppts</vt:lpwstr>
  </property>
  <property fmtid="{D5CDD505-2E9C-101B-9397-08002B2CF9AE}" pid="6" name="_PreviousAdHocReviewCycleID">
    <vt:r8>-434339299</vt:r8>
  </property>
</Properties>
</file>